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DD85-169D-405E-8B40-113BB01B0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FE61-EED1-46E2-A8E1-DDB918A32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FFF9-0E45-4EDD-9723-3B1643A11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D4AC-08D8-4891-BE13-795569CB4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4533-CB7F-40F9-8E9B-57B01DC08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441A-689C-4A09-9567-958E8A1B5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2E8F-476D-4BA3-A4E8-C421801A2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FB04-23E5-4214-AE46-FCE6E5C4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658-93CD-4E1D-A3DC-5F503A28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6CF-3BFD-4D22-AB91-C4986A40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85A-6D82-4123-B473-7644BAFC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6B41-DF29-4C45-88A8-69CDE121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208B-23D0-4114-A2A7-1EE149CD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4037-9BE2-4FCE-8FCD-90E75C5C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80AC-3847-44E4-9F95-0282F506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2A06-FC1A-4D66-92D5-EDB5F9D5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DF9B-5776-4C60-9801-78C74F5D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81C4-7560-464A-805E-3F24D335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47A-53D7-4C70-9625-02B9E293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B5FB-D16E-4AA0-90C6-2027F10F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62F7-FA2E-4DC3-9B08-0CFBAA0D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2591-100E-4734-A525-77A76EC2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1535-AD42-4137-8A9F-358DB4D6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A8CE-388F-404C-AAE8-157A5C65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C79F3-D953-4F9E-B303-25065575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A40A6-588B-4F17-BAEF-F5012880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7D3EA-2DFF-44C3-9413-F5C3CC59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D9D61-62C0-4636-8702-A2D054A2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9EA44-170E-497E-8C51-FA4C226C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94C-6A4B-44F6-B1AC-289F4B44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69817-6CFF-43A5-87B6-F710C94A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BA92A-073D-4A45-A2DB-A5E178F7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BB7DA-BCCA-4B3C-BB8B-A58161DD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1AE01-36D6-4E2A-AAA6-850DA932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76ABA-64BA-41AA-A97B-C1D31F7F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4BDF7-4B15-450C-B8FC-2986A4A6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547AA-B5AB-4ED8-99C7-DDA804AA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3EFE6-8533-4866-AF8B-37538A10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59B95-0BF6-4DBA-A447-7B9CAF0F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228FB-700C-4E3B-9AA2-F192EC4D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6E4-3D2A-46AE-A6A7-3CDED7C7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D3BE2-9A99-48C6-9996-B31D219C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9F675-22CE-4EAD-9149-ECFA1448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2B2E1-F243-486D-9C3C-CFD07518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11CF2-A234-4F88-9952-3BA6570B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30C42-2EDA-4A5F-BAEC-BCD55A26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A310C-A6F0-4268-B83D-6A3C42C3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D1154-39C3-4574-99FF-0166186B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7AC47-2A9B-40BC-9FFB-CCD136FF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D4D8B-B824-4122-86D8-7C6BCA1C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B512-7156-4918-8016-1B8FFE57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21C-DA46-4989-AAC9-B68CE631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BDF-E3DF-4ABF-BAD7-CD7E53E5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FF68-B8A7-4DA1-8C98-DD028456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794-5C6D-40CC-B3FE-4D5EC6E2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6CC2-50D5-40FB-A8AA-F9EDA59F071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E0DD-25CB-4237-906F-8A644040DD5E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8265-7C59-48D4-AB3E-B1E2F093D1A4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2AA8-1235-4516-9E92-38215B8519D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wo types of Observ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12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Constantia"/>
              </a:rPr>
              <a:t>Qua</a:t>
            </a:r>
            <a:r>
              <a:rPr b="0" lang="en-US" sz="4800" spc="-1" strike="noStrike">
                <a:solidFill>
                  <a:srgbClr val="ff0000"/>
                </a:solidFill>
                <a:latin typeface="Constantia"/>
              </a:rPr>
              <a:t>l</a:t>
            </a:r>
            <a:r>
              <a:rPr b="0" lang="en-US" sz="4800" spc="-1" strike="noStrike">
                <a:solidFill>
                  <a:srgbClr val="00ff00"/>
                </a:solidFill>
                <a:latin typeface="Constantia"/>
              </a:rPr>
              <a:t>itative – Quality – like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Constantia"/>
              </a:rPr>
              <a:t>                      </a:t>
            </a:r>
            <a:r>
              <a:rPr b="0" lang="en-US" sz="4800" spc="-1" strike="noStrike">
                <a:solidFill>
                  <a:srgbClr val="00ff00"/>
                </a:solidFill>
                <a:latin typeface="Constantia"/>
              </a:rPr>
              <a:t>your sense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Constantia"/>
              </a:rPr>
              <a:t>Qua</a:t>
            </a:r>
            <a:r>
              <a:rPr b="0" lang="en-US" sz="4800" spc="-1" strike="noStrike">
                <a:solidFill>
                  <a:srgbClr val="ff0000"/>
                </a:solidFill>
                <a:latin typeface="Constantia"/>
              </a:rPr>
              <a:t>n</a:t>
            </a:r>
            <a:r>
              <a:rPr b="0" lang="en-US" sz="4800" spc="-1" strike="noStrike">
                <a:solidFill>
                  <a:srgbClr val="00ff00"/>
                </a:solidFill>
                <a:latin typeface="Constantia"/>
              </a:rPr>
              <a:t>titative – n for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Constantia"/>
              </a:rPr>
              <a:t>                        </a:t>
            </a:r>
            <a:r>
              <a:rPr b="0" lang="en-US" sz="4800" spc="-1" strike="noStrike">
                <a:solidFill>
                  <a:srgbClr val="00ff00"/>
                </a:solidFill>
                <a:latin typeface="Constantia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158760" y="152280"/>
            <a:ext cx="871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Qualitative vs Quantitative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04920" y="1071720"/>
          <a:ext cx="8534160" cy="5505120"/>
        </p:xfrm>
        <a:graphic>
          <a:graphicData uri="http://schemas.openxmlformats.org/drawingml/2006/table">
            <a:tbl>
              <a:tblPr/>
              <a:tblGrid>
                <a:gridCol w="3962160"/>
                <a:gridCol w="4572000"/>
              </a:tblGrid>
              <a:tr h="553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alitative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verview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ls with descriptio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an be observed but  not measur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s, textures, smells, tastes, appearance, beauty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 →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antitative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verview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ls with numbe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which can be measur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, height, area, volume, weight, speed, time, temperature, humidity, sound levels, cost, members, age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 → Quantity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1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alitative Observ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ff00"/>
                </a:solidFill>
                <a:latin typeface="Comic Sans MS"/>
              </a:rPr>
              <a:t>Hard to measure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ff00"/>
                </a:solidFill>
                <a:latin typeface="Comic Sans MS"/>
              </a:rPr>
              <a:t>Describes the qualities or feelings of something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ff00"/>
                </a:solidFill>
                <a:latin typeface="Comic Sans MS"/>
              </a:rPr>
              <a:t>Color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ff00"/>
                </a:solidFill>
                <a:latin typeface="Comic Sans MS"/>
              </a:rPr>
              <a:t>Taste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ff00"/>
                </a:solidFill>
                <a:latin typeface="Comic Sans MS"/>
              </a:rPr>
              <a:t>Sound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antitative Observ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Comic Sans MS"/>
              </a:rPr>
              <a:t>Can be expressed in numb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Comic Sans MS"/>
              </a:rPr>
              <a:t>Can be counted or measur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Amoun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Mas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Comic Sans MS"/>
              </a:rPr>
              <a:t>Allow us to communicate specif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Comic Sans MS"/>
              </a:rPr>
              <a:t>Tools are used to communicate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Comic Sans MS"/>
              </a:rPr>
              <a:t>Observations are collected in data t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304920" y="2362320"/>
          <a:ext cx="8839080" cy="4064040"/>
        </p:xfrm>
        <a:graphic>
          <a:graphicData uri="http://schemas.openxmlformats.org/drawingml/2006/table">
            <a:tbl>
              <a:tblPr/>
              <a:tblGrid>
                <a:gridCol w="4752720"/>
                <a:gridCol w="4086360"/>
              </a:tblGrid>
              <a:tr h="40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xample 1:  Oil Pain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 dat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red/green color, gold fr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smells old and mus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texture shows brush strokes of o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a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masterful brush strok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xample 1:  Oil Pain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 dat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picture is 10" by 14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ith frame 14" by 18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 weighs 8.5 pou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rface area of painting is 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q. i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cost $3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" name="Picture 62" descr="MCj00975430000[1]"/>
          <p:cNvPicPr/>
          <p:nvPr/>
        </p:nvPicPr>
        <p:blipFill>
          <a:blip r:embed="rId1"/>
          <a:stretch/>
        </p:blipFill>
        <p:spPr>
          <a:xfrm>
            <a:off x="3581280" y="304920"/>
            <a:ext cx="2097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304920" y="2895480"/>
          <a:ext cx="8839080" cy="4521240"/>
        </p:xfrm>
        <a:graphic>
          <a:graphicData uri="http://schemas.openxmlformats.org/drawingml/2006/table">
            <a:tbl>
              <a:tblPr/>
              <a:tblGrid>
                <a:gridCol w="4752720"/>
                <a:gridCol w="4086360"/>
              </a:tblGrid>
              <a:tr h="452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xample 2:  La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 dat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robust ar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frothy appea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 strong ta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glass cu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 brown 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xample 2:  La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 dat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12 ounces of la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serving temperature 65</a:t>
                      </a:r>
                      <a:r>
                        <a:rPr b="1" lang="en-US" sz="2000" spc="-1" strike="noStrike" baseline="30000">
                          <a:solidFill>
                            <a:srgbClr val="ff0000"/>
                          </a:solidFill>
                          <a:latin typeface="Lucida Grande"/>
                        </a:rPr>
                        <a:t>0 C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serving cup 10 cms 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cost 1,250 colon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Picture 43" descr="MPj04387400000[1]"/>
          <p:cNvPicPr/>
          <p:nvPr/>
        </p:nvPicPr>
        <p:blipFill>
          <a:blip r:embed="rId1"/>
          <a:stretch/>
        </p:blipFill>
        <p:spPr>
          <a:xfrm>
            <a:off x="2133720" y="228600"/>
            <a:ext cx="3828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304920" y="2514600"/>
          <a:ext cx="8839080" cy="4064040"/>
        </p:xfrm>
        <a:graphic>
          <a:graphicData uri="http://schemas.openxmlformats.org/drawingml/2006/table">
            <a:tbl>
              <a:tblPr/>
              <a:tblGrid>
                <a:gridCol w="4752720"/>
                <a:gridCol w="4086360"/>
              </a:tblGrid>
              <a:tr h="408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xample 3:  Freshman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 dat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gla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pink h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gir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positive sm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xample 3:  Freshman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 dat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28 stud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16 girls, 12 b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68% on honor ro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150 students accelerated 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thematic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5" name="Picture 38" descr="MPj04386340000[1]"/>
          <p:cNvPicPr/>
          <p:nvPr/>
        </p:nvPicPr>
        <p:blipFill>
          <a:blip r:embed="rId1"/>
          <a:stretch/>
        </p:blipFill>
        <p:spPr>
          <a:xfrm>
            <a:off x="1447920" y="533520"/>
            <a:ext cx="640080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4" descr=""/>
          <p:cNvPicPr/>
          <p:nvPr/>
        </p:nvPicPr>
        <p:blipFill>
          <a:blip r:embed="rId1"/>
          <a:stretch/>
        </p:blipFill>
        <p:spPr>
          <a:xfrm>
            <a:off x="1219320" y="0"/>
            <a:ext cx="6553080" cy="4572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2"/>
          <p:cNvSpPr/>
          <p:nvPr/>
        </p:nvSpPr>
        <p:spPr>
          <a:xfrm>
            <a:off x="0" y="47433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Arial"/>
                <a:ea typeface="ＭＳ Ｐゴシック"/>
              </a:rPr>
              <a:t>Make one qualitative observation about the picture abo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plain why this is a qualitative observ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 one quantitative observation about the picture abo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plain why this is a quantitative observ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228600" y="47037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 one qualitative observation about the picture abo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plain why this is a qualitative observ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 one quantitative observation about the picture abo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plain why this is a quantitative observ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23:22:16Z</dcterms:created>
  <dc:creator>Thomas Jefferson</dc:creator>
  <dc:description/>
  <dc:language>en-US</dc:language>
  <cp:lastModifiedBy>Jeremy Rasik</cp:lastModifiedBy>
  <dcterms:modified xsi:type="dcterms:W3CDTF">2016-08-31T18:05:29Z</dcterms:modified>
  <cp:revision>27</cp:revision>
  <dc:subject/>
  <dc:title>PowerPoint Presentation</dc:title>
</cp:coreProperties>
</file>